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B17-948B-4CF8-AE9E-B6FE61CA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B41-9229-42BC-A2D8-120CF00C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69F-CDA3-4117-9A5F-9E74003B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C4E-E9F9-43A1-949F-41B7AC62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1151-6D87-43AF-909D-5CE1BACA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06E0-9695-49E2-8F93-D2B984CF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271-1484-41F7-A3B6-CD3A6218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740-3B26-4EDF-9AA6-82F09978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C47-1991-46C3-9FF5-0D1E5ED8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830-597C-4489-AF3F-CA0485CF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237-232F-47A2-A202-CA2FA404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043-5440-486A-96C5-344EA23A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29C7-6C13-489C-BE7F-32D69158C2C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n 6" descr=""/>
          <p:cNvPicPr/>
          <p:nvPr/>
        </p:nvPicPr>
        <p:blipFill>
          <a:blip r:embed="rId2"/>
          <a:stretch/>
        </p:blipFill>
        <p:spPr>
          <a:xfrm>
            <a:off x="6659640" y="1440"/>
            <a:ext cx="2468520" cy="822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959520" y="163440"/>
            <a:ext cx="187020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075280" cy="255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03640" y="5445000"/>
            <a:ext cx="37054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5750" t="0" r="15581" b="90229"/>
          <a:stretch/>
        </p:blipFill>
        <p:spPr>
          <a:xfrm>
            <a:off x="3708360" y="2924280"/>
            <a:ext cx="5292720" cy="931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Entrevista a A. Ca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1040" y="1484280"/>
            <a:ext cx="756720" cy="246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3494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197000"/>
            <a:ext cx="143964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6237" t="0" r="11923" b="20666"/>
          <a:stretch/>
        </p:blipFill>
        <p:spPr>
          <a:xfrm>
            <a:off x="2771640" y="2637000"/>
            <a:ext cx="2695680" cy="38876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rcRect l="7773" t="6857" r="12067" b="15043"/>
          <a:stretch/>
        </p:blipFill>
        <p:spPr>
          <a:xfrm>
            <a:off x="468360" y="1844640"/>
            <a:ext cx="2822400" cy="388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4360" y="1844640"/>
            <a:ext cx="3024360" cy="2305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473760" y="5805360"/>
            <a:ext cx="860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Artículo comple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56320" y="4221000"/>
            <a:ext cx="738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 u="sng">
                <a:solidFill>
                  <a:srgbClr val="000000"/>
                </a:solidFill>
                <a:uFillTx/>
                <a:latin typeface="Arial"/>
              </a:rPr>
              <a:t>Web: inese.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2605320" cy="3672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474840" y="1052640"/>
            <a:ext cx="150948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orresponsabl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1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544840" cy="3586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3"/>
          <a:srcRect l="0" t="11169" r="0" b="0"/>
          <a:stretch/>
        </p:blipFill>
        <p:spPr>
          <a:xfrm>
            <a:off x="5940360" y="1989000"/>
            <a:ext cx="2521080" cy="17748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00680" y="5607000"/>
            <a:ext cx="860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Artículo comple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9440" y="3789360"/>
            <a:ext cx="362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We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052640"/>
            <a:ext cx="134136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768480" cy="5048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rcRect l="7020" t="0" r="15913" b="0"/>
          <a:stretch/>
        </p:blipFill>
        <p:spPr>
          <a:xfrm>
            <a:off x="4067280" y="2565360"/>
            <a:ext cx="4968720" cy="934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33046" t="13252" r="30429" b="8111"/>
          <a:stretch/>
        </p:blipFill>
        <p:spPr>
          <a:xfrm>
            <a:off x="4716360" y="1484280"/>
            <a:ext cx="3441960" cy="4630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/>
          <a:srcRect l="33334" t="14476" r="30477" b="10095"/>
          <a:stretch/>
        </p:blipFill>
        <p:spPr>
          <a:xfrm>
            <a:off x="324000" y="1413000"/>
            <a:ext cx="3554280" cy="4630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324000" y="4365720"/>
            <a:ext cx="792000" cy="1800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907920"/>
            <a:ext cx="134136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-10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907920"/>
            <a:ext cx="134172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-11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254560" cy="4054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2276640"/>
            <a:ext cx="1008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8:04:46Z</dcterms:created>
  <dc:creator>u2498325</dc:creator>
  <dc:description/>
  <dc:language>en-US</dc:language>
  <cp:lastModifiedBy>U2499960</cp:lastModifiedBy>
  <dcterms:modified xsi:type="dcterms:W3CDTF">2011-12-05T09:21:55Z</dcterms:modified>
  <cp:revision>16</cp:revision>
  <dc:subject/>
  <dc:title>Diapositiva 1</dc:title>
</cp:coreProperties>
</file>